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3.pct" ContentType="image/x-pict"/>
  <Override PartName="/ppt/media/image8.pct" ContentType="image/x-pict"/>
  <Override PartName="/ppt/media/image10.png" ContentType="image/png"/>
  <Override PartName="/ppt/media/image7.pct" ContentType="image/x-pict"/>
  <Override PartName="/ppt/media/image18.png" ContentType="image/png"/>
  <Override PartName="/ppt/media/image17.pct" ContentType="image/x-pict"/>
  <Override PartName="/ppt/media/image14.jpeg" ContentType="image/jpeg"/>
  <Override PartName="/ppt/media/image16.pct" ContentType="image/x-pict"/>
  <Override PartName="/ppt/media/image1.pct" ContentType="image/x-pict"/>
  <Override PartName="/ppt/media/image15.pct" ContentType="image/x-pict"/>
  <Override PartName="/ppt/media/image4.png" ContentType="image/png"/>
  <Override PartName="/ppt/media/image13.jpeg" ContentType="image/jpeg"/>
  <Override PartName="/ppt/media/image2.pct" ContentType="image/x-pict"/>
  <Override PartName="/ppt/media/image11.png" ContentType="image/png"/>
  <Override PartName="/ppt/media/image12.jpeg" ContentType="image/jpeg"/>
  <Override PartName="/ppt/media/image5.pct" ContentType="image/x-pict"/>
  <Override PartName="/ppt/media/image6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6858000" cy="5176838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9120" y="689040"/>
            <a:ext cx="4560840" cy="344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B406-6B85-4CFC-A224-1F265CABD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B9F8-D797-4851-963D-92B833A12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9480" y="689040"/>
            <a:ext cx="4560840" cy="34416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participants’ responses to these essential questions and discuss merits of these compared to participants’ respon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CA88-727D-4A59-8873-DF205CAA4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9480" y="689040"/>
            <a:ext cx="4560840" cy="34416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5D87-7540-402A-91A2-B79C55C95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1200" y="1498680"/>
            <a:ext cx="583416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200" y="3118680"/>
            <a:ext cx="583416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2297-B3EC-4659-80C2-9C35991C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1200" y="1498680"/>
            <a:ext cx="28468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0640" y="1498680"/>
            <a:ext cx="28468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1200" y="3118680"/>
            <a:ext cx="28468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0640" y="3118680"/>
            <a:ext cx="28468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7500-90A2-48C5-915A-CCB9E42AC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1200" y="1498680"/>
            <a:ext cx="18784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4000" y="1498680"/>
            <a:ext cx="18784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800" y="1498680"/>
            <a:ext cx="18784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1200" y="3118680"/>
            <a:ext cx="18784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4000" y="3118680"/>
            <a:ext cx="18784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800" y="3118680"/>
            <a:ext cx="18784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D7B3-F36B-4453-B34E-532EE8FB5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1200" y="1498680"/>
            <a:ext cx="5834160" cy="31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00BD-97EC-49C2-836D-D9B48C29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1200" y="1498680"/>
            <a:ext cx="5834160" cy="3101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0615-F30C-4B65-BD19-CFD89EF0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1200" y="1498680"/>
            <a:ext cx="2846880" cy="3101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0640" y="1498680"/>
            <a:ext cx="2846880" cy="3101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2EFB-8C7A-4CE4-A7F4-0E84A231D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DB20-6E18-4B3B-8660-B1751D8E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1200" y="456840"/>
            <a:ext cx="583416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9139-6C88-4533-BE9D-61F828D7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1200" y="1498680"/>
            <a:ext cx="28468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0640" y="1498680"/>
            <a:ext cx="2846880" cy="3101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1200" y="3118680"/>
            <a:ext cx="28468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2DC5-3041-4290-8114-927E01BC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1200" y="1498680"/>
            <a:ext cx="2846880" cy="3101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0640" y="1498680"/>
            <a:ext cx="28468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0640" y="3118680"/>
            <a:ext cx="28468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FF12-4F42-468A-B382-C2552479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1200" y="1498680"/>
            <a:ext cx="28468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0640" y="1498680"/>
            <a:ext cx="28468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200" y="3118680"/>
            <a:ext cx="583416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F7F7-BCC1-49C0-9516-2B567F7D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1200" y="1498680"/>
            <a:ext cx="5834160" cy="3101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 fontScale="96000"/>
          </a:bodyPr>
          <a:p>
            <a:pPr marL="261720" indent="-26172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320" indent="-2192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880920" indent="-17676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6880" indent="-17496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1578600" indent="-174960">
              <a:spcBef>
                <a:spcPts val="624"/>
              </a:spcBef>
              <a:buClr>
                <a:srgbClr val="000000"/>
              </a:buClr>
              <a:buFont typeface="Times New Roman"/>
              <a:buChar char="»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5" marL="1578600" indent="-174960">
              <a:spcBef>
                <a:spcPts val="624"/>
              </a:spcBef>
              <a:buClr>
                <a:srgbClr val="000000"/>
              </a:buClr>
              <a:buFont typeface="Times New Roman"/>
              <a:buChar char="»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6" marL="1578600" indent="-174960">
              <a:spcBef>
                <a:spcPts val="624"/>
              </a:spcBef>
              <a:buClr>
                <a:srgbClr val="000000"/>
              </a:buClr>
              <a:buFont typeface="Times New Roman"/>
              <a:buChar char="»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0840" y="4716360"/>
            <a:ext cx="1428840" cy="3412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4320" y="4716360"/>
            <a:ext cx="2166840" cy="3412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6160" y="4716360"/>
            <a:ext cx="1428840" cy="3412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7FA6-B82A-47E1-82EF-0C01AABBA15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228600" y="758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Understanding the               Big Ideas of Sc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685800" y="3273480"/>
            <a:ext cx="548640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j0250659"/>
          <p:cNvPicPr/>
          <p:nvPr/>
        </p:nvPicPr>
        <p:blipFill>
          <a:blip r:embed="rId1"/>
          <a:stretch/>
        </p:blipFill>
        <p:spPr>
          <a:xfrm>
            <a:off x="4648320" y="2664000"/>
            <a:ext cx="1523880" cy="1231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MCj03970480000[1]"/>
          <p:cNvPicPr/>
          <p:nvPr/>
        </p:nvPicPr>
        <p:blipFill>
          <a:blip r:embed="rId2"/>
          <a:stretch/>
        </p:blipFill>
        <p:spPr>
          <a:xfrm>
            <a:off x="914400" y="2511360"/>
            <a:ext cx="1481040" cy="1478160"/>
          </a:xfrm>
          <a:prstGeom prst="rect">
            <a:avLst/>
          </a:prstGeom>
          <a:ln w="0">
            <a:noFill/>
          </a:ln>
        </p:spPr>
      </p:pic>
      <p:sp>
        <p:nvSpPr>
          <p:cNvPr id="53" name="Left-Right Arrow 8"/>
          <p:cNvSpPr/>
          <p:nvPr/>
        </p:nvSpPr>
        <p:spPr>
          <a:xfrm rot="10800000">
            <a:off x="2819160" y="2892600"/>
            <a:ext cx="1447560" cy="636480"/>
          </a:xfrm>
          <a:prstGeom prst="leftRightArrow">
            <a:avLst>
              <a:gd name="adj1" fmla="val 50000"/>
              <a:gd name="adj2" fmla="val 50003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321920"/>
            <a:ext cx="5943600" cy="2127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ahoma"/>
              </a:rPr>
              <a:t>Fish is Fish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                                by                                 Leo Lion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Scan0017"/>
          <p:cNvPicPr/>
          <p:nvPr/>
        </p:nvPicPr>
        <p:blipFill>
          <a:blip r:embed="rId1"/>
          <a:stretch/>
        </p:blipFill>
        <p:spPr>
          <a:xfrm>
            <a:off x="0" y="0"/>
            <a:ext cx="68580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Scan0016"/>
          <p:cNvPicPr/>
          <p:nvPr/>
        </p:nvPicPr>
        <p:blipFill>
          <a:blip r:embed="rId1"/>
          <a:stretch/>
        </p:blipFill>
        <p:spPr>
          <a:xfrm>
            <a:off x="0" y="0"/>
            <a:ext cx="68580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Scan0015"/>
          <p:cNvPicPr/>
          <p:nvPr/>
        </p:nvPicPr>
        <p:blipFill>
          <a:blip r:embed="rId1"/>
          <a:stretch/>
        </p:blipFill>
        <p:spPr>
          <a:xfrm>
            <a:off x="0" y="0"/>
            <a:ext cx="68580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ividual Reading T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280" y="758520"/>
            <a:ext cx="6934320" cy="16794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Number off by 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8040" indent="-24804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Read Intro on page 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8040" indent="-2480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along with 3 paragraphs on page 2</a:t>
            </a: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8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MCj03326800000[1]"/>
          <p:cNvPicPr/>
          <p:nvPr/>
        </p:nvPicPr>
        <p:blipFill>
          <a:blip r:embed="rId1"/>
          <a:stretch/>
        </p:blipFill>
        <p:spPr>
          <a:xfrm>
            <a:off x="5410080" y="3583080"/>
            <a:ext cx="129564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304560" y="685800"/>
            <a:ext cx="5764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#1 Read: System, Order, and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(pages 2 -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68640" y="61920"/>
            <a:ext cx="6171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dividual Reading Assign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381960" y="1523880"/>
            <a:ext cx="6211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#2 Read: Evidence, Models, and Explan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page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306360" y="2362320"/>
            <a:ext cx="65311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#3 Read: Change, Constancy, and Measur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page 3 -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05280" y="3276720"/>
            <a:ext cx="606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#4 Read: Evolution and Equilibrium (page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80160" y="3962520"/>
            <a:ext cx="47739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5 Read: Form and Function (page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790560" y="1346040"/>
            <a:ext cx="48290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ahoma"/>
              </a:rPr>
              <a:t>Summarize key ide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ahoma"/>
              </a:rPr>
              <a:t>on chart pap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3733920" y="1976400"/>
            <a:ext cx="274320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5943600" cy="51753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marL="2728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Crafting a Unifying Defini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Craft a 10-12 word definition of </a:t>
            </a:r>
            <a:r>
              <a:rPr b="1" i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your big idea of science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hat captures the key element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Be prepared to share with the whole group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3" descr="C:\Documents and Settings\mknuck\Local Settings\Temporary Internet Files\Content.IE5\SL4CNW5K\MCj03511960000[1].wmf"/>
          <p:cNvPicPr/>
          <p:nvPr/>
        </p:nvPicPr>
        <p:blipFill>
          <a:blip r:embed="rId1"/>
          <a:stretch/>
        </p:blipFill>
        <p:spPr>
          <a:xfrm>
            <a:off x="1447920" y="453960"/>
            <a:ext cx="137160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4"/>
          <p:cNvSpPr txBox="1"/>
          <p:nvPr/>
        </p:nvSpPr>
        <p:spPr>
          <a:xfrm>
            <a:off x="838080" y="758880"/>
            <a:ext cx="541044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Big Ideas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ARE Bigger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an Concept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71360" y="114480"/>
          <a:ext cx="6329520" cy="6248160"/>
        </p:xfrm>
        <a:graphic>
          <a:graphicData uri="http://schemas.openxmlformats.org/drawingml/2006/table">
            <a:tbl>
              <a:tblPr/>
              <a:tblGrid>
                <a:gridCol w="173520"/>
                <a:gridCol w="1835640"/>
                <a:gridCol w="1976760"/>
                <a:gridCol w="2343600"/>
              </a:tblGrid>
              <a:tr h="155556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fe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ienc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sical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ienc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arth and Space Scienc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58580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55124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55556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pSp>
        <p:nvGrpSpPr>
          <p:cNvPr id="109" name="Group 29"/>
          <p:cNvGrpSpPr/>
          <p:nvPr/>
        </p:nvGrpSpPr>
        <p:grpSpPr>
          <a:xfrm>
            <a:off x="152280" y="3121200"/>
            <a:ext cx="6324120" cy="882360"/>
            <a:chOff x="152280" y="3121200"/>
            <a:chExt cx="6324120" cy="882360"/>
          </a:xfrm>
        </p:grpSpPr>
        <p:sp>
          <p:nvSpPr>
            <p:cNvPr id="110" name="Rectangle 30"/>
            <p:cNvSpPr/>
            <p:nvPr/>
          </p:nvSpPr>
          <p:spPr>
            <a:xfrm>
              <a:off x="152280" y="3188160"/>
              <a:ext cx="5723640" cy="736920"/>
            </a:xfrm>
            <a:prstGeom prst="rect">
              <a:avLst/>
            </a:prstGeom>
            <a:gradFill rotWithShape="0">
              <a:gsLst>
                <a:gs pos="0">
                  <a:srgbClr val="765e2f"/>
                </a:gs>
                <a:gs pos="50000">
                  <a:srgbClr val="ffcc66"/>
                </a:gs>
                <a:gs pos="100000">
                  <a:srgbClr val="765e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AutoShape 31"/>
            <p:cNvSpPr/>
            <p:nvPr/>
          </p:nvSpPr>
          <p:spPr>
            <a:xfrm rot="5400000">
              <a:off x="5704920" y="3232080"/>
              <a:ext cx="882360" cy="6606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765e2f"/>
                </a:gs>
                <a:gs pos="50000">
                  <a:srgbClr val="ffcc66"/>
                </a:gs>
                <a:gs pos="100000">
                  <a:srgbClr val="765e2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Group 32"/>
          <p:cNvGrpSpPr/>
          <p:nvPr/>
        </p:nvGrpSpPr>
        <p:grpSpPr>
          <a:xfrm>
            <a:off x="152280" y="4035600"/>
            <a:ext cx="6324120" cy="914400"/>
            <a:chOff x="152280" y="4035600"/>
            <a:chExt cx="6324120" cy="914400"/>
          </a:xfrm>
        </p:grpSpPr>
        <p:sp>
          <p:nvSpPr>
            <p:cNvPr id="113" name="Rectangle 33"/>
            <p:cNvSpPr/>
            <p:nvPr/>
          </p:nvSpPr>
          <p:spPr>
            <a:xfrm>
              <a:off x="152280" y="4105080"/>
              <a:ext cx="5723640" cy="763560"/>
            </a:xfrm>
            <a:prstGeom prst="rect">
              <a:avLst/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AutoShape 34"/>
            <p:cNvSpPr/>
            <p:nvPr/>
          </p:nvSpPr>
          <p:spPr>
            <a:xfrm rot="5400000">
              <a:off x="5688720" y="4162320"/>
              <a:ext cx="914400" cy="6606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Group 35"/>
          <p:cNvGrpSpPr/>
          <p:nvPr/>
        </p:nvGrpSpPr>
        <p:grpSpPr>
          <a:xfrm>
            <a:off x="152280" y="2206800"/>
            <a:ext cx="6305760" cy="882360"/>
            <a:chOff x="152280" y="2206800"/>
            <a:chExt cx="6305760" cy="882360"/>
          </a:xfrm>
        </p:grpSpPr>
        <p:sp>
          <p:nvSpPr>
            <p:cNvPr id="116" name="Rectangle 36"/>
            <p:cNvSpPr/>
            <p:nvPr/>
          </p:nvSpPr>
          <p:spPr>
            <a:xfrm>
              <a:off x="152280" y="2273760"/>
              <a:ext cx="5706360" cy="736920"/>
            </a:xfrm>
            <a:prstGeom prst="rect">
              <a:avLst/>
            </a:prstGeom>
            <a:gradFill rotWithShape="0">
              <a:gsLst>
                <a:gs pos="0">
                  <a:srgbClr val="471800"/>
                </a:gs>
                <a:gs pos="5000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AutoShape 37"/>
            <p:cNvSpPr/>
            <p:nvPr/>
          </p:nvSpPr>
          <p:spPr>
            <a:xfrm rot="5400000">
              <a:off x="5687280" y="2318400"/>
              <a:ext cx="882360" cy="6588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71800"/>
                </a:gs>
                <a:gs pos="50000">
                  <a:srgbClr val="993300"/>
                </a:gs>
                <a:gs pos="100000">
                  <a:srgbClr val="47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Text Box 38"/>
          <p:cNvSpPr/>
          <p:nvPr/>
        </p:nvSpPr>
        <p:spPr>
          <a:xfrm>
            <a:off x="457200" y="2435400"/>
            <a:ext cx="5086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quiry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9"/>
          <p:cNvSpPr/>
          <p:nvPr/>
        </p:nvSpPr>
        <p:spPr>
          <a:xfrm>
            <a:off x="533520" y="3349800"/>
            <a:ext cx="50860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story and Nature of Sc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40"/>
          <p:cNvSpPr/>
          <p:nvPr/>
        </p:nvSpPr>
        <p:spPr>
          <a:xfrm>
            <a:off x="533520" y="4264200"/>
            <a:ext cx="50860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sonal and Social Perspec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Group 43"/>
          <p:cNvGrpSpPr/>
          <p:nvPr/>
        </p:nvGrpSpPr>
        <p:grpSpPr>
          <a:xfrm>
            <a:off x="152280" y="1292400"/>
            <a:ext cx="6324120" cy="838080"/>
            <a:chOff x="152280" y="1292400"/>
            <a:chExt cx="6324120" cy="838080"/>
          </a:xfrm>
        </p:grpSpPr>
        <p:sp>
          <p:nvSpPr>
            <p:cNvPr id="122" name="Rectangle 44"/>
            <p:cNvSpPr/>
            <p:nvPr/>
          </p:nvSpPr>
          <p:spPr>
            <a:xfrm>
              <a:off x="152280" y="1356120"/>
              <a:ext cx="5723640" cy="699840"/>
            </a:xfrm>
            <a:prstGeom prst="rect">
              <a:avLst/>
            </a:prstGeom>
            <a:gradFill rotWithShape="0">
              <a:gsLst>
                <a:gs pos="0">
                  <a:srgbClr val="373737"/>
                </a:gs>
                <a:gs pos="50000">
                  <a:srgbClr val="777777"/>
                </a:gs>
                <a:gs pos="100000">
                  <a:srgbClr val="37373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AutoShape 45"/>
            <p:cNvSpPr/>
            <p:nvPr/>
          </p:nvSpPr>
          <p:spPr>
            <a:xfrm rot="5400000">
              <a:off x="5726880" y="1380960"/>
              <a:ext cx="838080" cy="6606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777777"/>
                </a:gs>
                <a:gs pos="100000">
                  <a:srgbClr val="373737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Rectangle 47"/>
          <p:cNvSpPr/>
          <p:nvPr/>
        </p:nvSpPr>
        <p:spPr>
          <a:xfrm>
            <a:off x="1528920" y="152100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ience and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48"/>
          <p:cNvSpPr/>
          <p:nvPr/>
        </p:nvSpPr>
        <p:spPr>
          <a:xfrm>
            <a:off x="457200" y="1216080"/>
            <a:ext cx="5715000" cy="4343400"/>
          </a:xfrm>
          <a:prstGeom prst="lightningBolt">
            <a:avLst/>
          </a:prstGeom>
          <a:solidFill>
            <a:srgbClr val="cc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9"/>
          <p:cNvSpPr/>
          <p:nvPr/>
        </p:nvSpPr>
        <p:spPr>
          <a:xfrm rot="2314200">
            <a:off x="1523160" y="2765160"/>
            <a:ext cx="323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BIG  ID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529920"/>
            <a:ext cx="5834160" cy="9874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utcomes of S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1200" y="1672920"/>
            <a:ext cx="5889600" cy="29271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Big Ideas of Sc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ine how the big ideas impact teaching and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BD04924_"/>
          <p:cNvPicPr/>
          <p:nvPr/>
        </p:nvPicPr>
        <p:blipFill>
          <a:blip r:embed="rId1"/>
          <a:stretch/>
        </p:blipFill>
        <p:spPr>
          <a:xfrm rot="1053000">
            <a:off x="5562360" y="377640"/>
            <a:ext cx="113652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52992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Key Ideas to Consi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11200" y="1521000"/>
            <a:ext cx="5889600" cy="3079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a science topic is taught is more important than the topic its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ing concepts in science is more than learning fac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5" descr="BD04924_"/>
          <p:cNvPicPr/>
          <p:nvPr/>
        </p:nvPicPr>
        <p:blipFill>
          <a:blip r:embed="rId1"/>
          <a:stretch/>
        </p:blipFill>
        <p:spPr>
          <a:xfrm rot="1053000">
            <a:off x="5382720" y="220680"/>
            <a:ext cx="12826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5"/>
          <p:cNvSpPr/>
          <p:nvPr/>
        </p:nvSpPr>
        <p:spPr>
          <a:xfrm flipH="1" rot="10800000">
            <a:off x="379440" y="149040"/>
            <a:ext cx="1257480" cy="48704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tandar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1905120" y="149400"/>
            <a:ext cx="4610160" cy="2895480"/>
          </a:xfrm>
          <a:prstGeom prst="downArrowCallout">
            <a:avLst>
              <a:gd name="adj1" fmla="val 42256"/>
              <a:gd name="adj2" fmla="val 45834"/>
              <a:gd name="adj3" fmla="val 12778"/>
              <a:gd name="adj4" fmla="val 80472"/>
            </a:avLst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entify Big Ide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it that you want students to know and be able to 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ect important scientific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529920"/>
            <a:ext cx="5791320" cy="7621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 Example to Consi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11200" y="1444320"/>
            <a:ext cx="5889600" cy="3352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teaching students to only name the parts of a plant teaching to a big id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ould you structure instruction on plants so that you are teaching to a big idea or ide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5" descr="BD04924_"/>
          <p:cNvPicPr/>
          <p:nvPr/>
        </p:nvPicPr>
        <p:blipFill>
          <a:blip r:embed="rId1"/>
          <a:stretch/>
        </p:blipFill>
        <p:spPr>
          <a:xfrm rot="1053000">
            <a:off x="5382720" y="220680"/>
            <a:ext cx="12826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511200" y="1368360"/>
            <a:ext cx="5889600" cy="32320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Big Ideas of Scien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 these ideas support the the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are science and mathematics connect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4" descr="BD04924_"/>
          <p:cNvPicPr/>
          <p:nvPr/>
        </p:nvPicPr>
        <p:blipFill>
          <a:blip r:embed="rId1"/>
          <a:stretch/>
        </p:blipFill>
        <p:spPr>
          <a:xfrm rot="1053000">
            <a:off x="5714640" y="529920"/>
            <a:ext cx="981000" cy="9907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517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Key Questions to Consi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indefinite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indefinite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 flipH="1" rot="10800000">
            <a:off x="379440" y="149040"/>
            <a:ext cx="1257480" cy="48704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tandar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1905120" y="225360"/>
            <a:ext cx="4610160" cy="2514600"/>
          </a:xfrm>
          <a:prstGeom prst="downArrowCallout">
            <a:avLst>
              <a:gd name="adj1" fmla="val 42256"/>
              <a:gd name="adj2" fmla="val 45834"/>
              <a:gd name="adj3" fmla="val 12778"/>
              <a:gd name="adj4" fmla="val 80472"/>
            </a:avLst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entify Big Ide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it that you want students to know and be able to 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ect important scientific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1905120" y="2816280"/>
            <a:ext cx="4610160" cy="2206440"/>
          </a:xfrm>
          <a:prstGeom prst="downArrowCallout">
            <a:avLst>
              <a:gd name="adj1" fmla="val 48158"/>
              <a:gd name="adj2" fmla="val 52235"/>
              <a:gd name="adj3" fmla="val 12778"/>
              <a:gd name="adj4" fmla="val 80472"/>
            </a:avLst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entify T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ore theme and big idea. They should mutually inform one an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529920"/>
            <a:ext cx="5791320" cy="7621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 Example to Consi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22320"/>
            <a:ext cx="5889600" cy="33530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k of your choice of a big idea to teach, what theme might be appropria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oose a theme at your table to sh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5" descr="BD04924_"/>
          <p:cNvPicPr/>
          <p:nvPr/>
        </p:nvPicPr>
        <p:blipFill>
          <a:blip r:embed="rId1"/>
          <a:stretch/>
        </p:blipFill>
        <p:spPr>
          <a:xfrm rot="1053000">
            <a:off x="5382720" y="220680"/>
            <a:ext cx="12826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11200" y="1368360"/>
            <a:ext cx="5889600" cy="32320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Big Ideas of Scien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 these ideas support the the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are science and mathematics connect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BD04924_"/>
          <p:cNvPicPr/>
          <p:nvPr/>
        </p:nvPicPr>
        <p:blipFill>
          <a:blip r:embed="rId1"/>
          <a:stretch/>
        </p:blipFill>
        <p:spPr>
          <a:xfrm rot="1053000">
            <a:off x="5714640" y="529920"/>
            <a:ext cx="981000" cy="990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517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Key Questions to Consi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indefinite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indefinite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 flipH="1" rot="10800000">
            <a:off x="379440" y="149040"/>
            <a:ext cx="1257480" cy="48704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tandar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1905120" y="149400"/>
            <a:ext cx="4610160" cy="1828800"/>
          </a:xfrm>
          <a:prstGeom prst="downArrowCallout">
            <a:avLst>
              <a:gd name="adj1" fmla="val 58102"/>
              <a:gd name="adj2" fmla="val 63022"/>
              <a:gd name="adj3" fmla="val 12778"/>
              <a:gd name="adj4" fmla="val 80472"/>
            </a:avLst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ep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dentify Big Idea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at is it that you want students to know and be able to d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ortant scientific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1828800" y="2054160"/>
            <a:ext cx="4610160" cy="1524240"/>
          </a:xfrm>
          <a:prstGeom prst="downArrowCallout">
            <a:avLst>
              <a:gd name="adj1" fmla="val 69711"/>
              <a:gd name="adj2" fmla="val 75614"/>
              <a:gd name="adj3" fmla="val 12778"/>
              <a:gd name="adj4" fmla="val 80472"/>
            </a:avLst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ep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dentify The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loring theme and big idea from science should mutually inform one an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1828800" y="3654360"/>
            <a:ext cx="4610160" cy="14032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nect Mathematics and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 flipH="1" rot="10800000">
            <a:off x="227160" y="149040"/>
            <a:ext cx="1104840" cy="48704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tandar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523880" y="149400"/>
            <a:ext cx="5105520" cy="4876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nect Mathematics                           and Sc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2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Select an application of a mathematical concept that can be integrated into this science learning exper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2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Content must be important to the study of mathema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2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Examples: estimation, number sense, operations, fractions and decimals, geometry, measurement, data analysis, statistics, probability, patterns, functions, and alg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2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78000"/>
            <a:ext cx="5791320" cy="761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 Example to Consi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368000"/>
            <a:ext cx="5889600" cy="36543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your choice of a big idea and theme to teach, what might be a powerful connection to mathematic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oose a mathematics focus at your table to sh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5" descr="BD04924_"/>
          <p:cNvPicPr/>
          <p:nvPr/>
        </p:nvPicPr>
        <p:blipFill>
          <a:blip r:embed="rId1"/>
          <a:stretch/>
        </p:blipFill>
        <p:spPr>
          <a:xfrm rot="1053000">
            <a:off x="5382720" y="220680"/>
            <a:ext cx="12826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11200" y="1368360"/>
            <a:ext cx="5889600" cy="32320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Big Ideas of Scien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 these ideas support the the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are science and mathematics connect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BD04924_"/>
          <p:cNvPicPr/>
          <p:nvPr/>
        </p:nvPicPr>
        <p:blipFill>
          <a:blip r:embed="rId1"/>
          <a:stretch/>
        </p:blipFill>
        <p:spPr>
          <a:xfrm rot="1053000">
            <a:off x="5714640" y="529920"/>
            <a:ext cx="981000" cy="9907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517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Key Questions to Consi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indefinite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indefinite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37800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1" lang="en-US" sz="4400" spc="-1" strike="noStrike">
                <a:solidFill>
                  <a:srgbClr val="262699"/>
                </a:solidFill>
                <a:latin typeface="Tahoma"/>
              </a:rPr>
              <a:t>Synthesiz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Diagram 5" descr=""/>
          <p:cNvPicPr/>
          <p:nvPr/>
        </p:nvPicPr>
        <p:blipFill>
          <a:blip r:embed="rId1"/>
          <a:stretch/>
        </p:blipFill>
        <p:spPr>
          <a:xfrm>
            <a:off x="907920" y="1359000"/>
            <a:ext cx="481032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529920"/>
            <a:ext cx="5834160" cy="9874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utcomes of S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11200" y="1672920"/>
            <a:ext cx="5889600" cy="29271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Big Ideas of Sc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ine how the big ideas impact teaching and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5" descr="BD04924_"/>
          <p:cNvPicPr/>
          <p:nvPr/>
        </p:nvPicPr>
        <p:blipFill>
          <a:blip r:embed="rId1"/>
          <a:stretch/>
        </p:blipFill>
        <p:spPr>
          <a:xfrm rot="1053000">
            <a:off x="5562360" y="377640"/>
            <a:ext cx="113652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4"/>
          <p:cNvGrpSpPr/>
          <p:nvPr/>
        </p:nvGrpSpPr>
        <p:grpSpPr>
          <a:xfrm>
            <a:off x="4724280" y="3197160"/>
            <a:ext cx="1752480" cy="1523880"/>
            <a:chOff x="4724280" y="3197160"/>
            <a:chExt cx="1752480" cy="1523880"/>
          </a:xfrm>
        </p:grpSpPr>
        <p:sp>
          <p:nvSpPr>
            <p:cNvPr id="170" name="Freeform 5"/>
            <p:cNvSpPr/>
            <p:nvPr/>
          </p:nvSpPr>
          <p:spPr>
            <a:xfrm>
              <a:off x="5249520" y="3472560"/>
              <a:ext cx="708120" cy="977040"/>
            </a:xfrm>
            <a:prstGeom prst="pie">
              <a:avLst/>
            </a:prstGeom>
            <a:solidFill>
              <a:srgbClr val="000099"/>
            </a:solidFill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Freeform 6"/>
            <p:cNvSpPr/>
            <p:nvPr/>
          </p:nvSpPr>
          <p:spPr>
            <a:xfrm>
              <a:off x="5289120" y="3512160"/>
              <a:ext cx="629280" cy="683280"/>
            </a:xfrm>
            <a:prstGeom prst="pie">
              <a:avLst/>
            </a:prstGeom>
            <a:solidFill>
              <a:srgbClr val="000099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Freeform 7"/>
            <p:cNvSpPr/>
            <p:nvPr/>
          </p:nvSpPr>
          <p:spPr>
            <a:xfrm>
              <a:off x="5518800" y="4245840"/>
              <a:ext cx="201600" cy="155880"/>
            </a:xfrm>
            <a:prstGeom prst="pie">
              <a:avLst/>
            </a:prstGeom>
            <a:solidFill>
              <a:srgbClr val="000099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Freeform 8"/>
            <p:cNvSpPr/>
            <p:nvPr/>
          </p:nvSpPr>
          <p:spPr>
            <a:xfrm>
              <a:off x="4724280" y="3197160"/>
              <a:ext cx="1752480" cy="1523880"/>
            </a:xfrm>
            <a:prstGeom prst="pie">
              <a:avLst/>
            </a:prstGeom>
            <a:solidFill>
              <a:srgbClr val="000099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Freeform 9"/>
            <p:cNvSpPr/>
            <p:nvPr/>
          </p:nvSpPr>
          <p:spPr>
            <a:xfrm>
              <a:off x="4773960" y="3222360"/>
              <a:ext cx="1658880" cy="14630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WordArt 11"/>
          <p:cNvSpPr txBox="1"/>
          <p:nvPr/>
        </p:nvSpPr>
        <p:spPr>
          <a:xfrm>
            <a:off x="838080" y="987480"/>
            <a:ext cx="5257800" cy="304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Tahoma"/>
              </a:rPr>
              <a:t>QUESTIONS</a:t>
            </a:r>
            <a:endParaRPr b="1" i="1" lang="en-US" sz="4000" spc="1" strike="noStrike">
              <a:ln w="936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Tahoma"/>
              <a:ea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Rectangle 1" descr=""/>
          <p:cNvPicPr/>
          <p:nvPr/>
        </p:nvPicPr>
        <p:blipFill>
          <a:blip r:embed="rId1"/>
          <a:stretch/>
        </p:blipFill>
        <p:spPr>
          <a:xfrm>
            <a:off x="2127240" y="523800"/>
            <a:ext cx="4432320" cy="1768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C:\Documents and Settings\mknuck\Local Settings\Temporary Internet Files\Content.IE5\VFWXN81O\MCj04039910000[1].wmf"/>
          <p:cNvPicPr/>
          <p:nvPr/>
        </p:nvPicPr>
        <p:blipFill>
          <a:blip r:embed="rId2"/>
          <a:stretch/>
        </p:blipFill>
        <p:spPr>
          <a:xfrm>
            <a:off x="304920" y="5302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460440" y="2438280"/>
            <a:ext cx="50972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questions do you ha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bout the box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383040" y="3505320"/>
            <a:ext cx="6224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is your plan for investig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459720" y="4114800"/>
            <a:ext cx="59475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data do you need to collec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49400"/>
            <a:ext cx="5943600" cy="17524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mall Group Process:              Understanding the                  Big Ideas of Sc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2130120"/>
            <a:ext cx="6248160" cy="24699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How do students learn scien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440" indent="-25344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How would you describe a classroom where students are actively engaged in learning scien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7" descr="MCBS00297_0000[1]"/>
          <p:cNvPicPr/>
          <p:nvPr/>
        </p:nvPicPr>
        <p:blipFill>
          <a:blip r:embed="rId1"/>
          <a:stretch/>
        </p:blipFill>
        <p:spPr>
          <a:xfrm flipH="1">
            <a:off x="5486400" y="3882960"/>
            <a:ext cx="137160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1328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cience Classroo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5"/>
          <p:cNvSpPr/>
          <p:nvPr/>
        </p:nvSpPr>
        <p:spPr>
          <a:xfrm>
            <a:off x="685800" y="1139760"/>
            <a:ext cx="17049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9933"/>
                </a:solidFill>
                <a:latin typeface="Comic Sans MS"/>
              </a:rPr>
              <a:t>  </a:t>
            </a:r>
            <a:r>
              <a:rPr b="1" lang="en-US" sz="2100" spc="-1" strike="noStrike">
                <a:solidFill>
                  <a:srgbClr val="ff9933"/>
                </a:solidFill>
                <a:latin typeface="Comic Sans MS"/>
              </a:rPr>
              <a:t>Look Li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6"/>
          <p:cNvSpPr/>
          <p:nvPr/>
        </p:nvSpPr>
        <p:spPr>
          <a:xfrm>
            <a:off x="2590920" y="1139760"/>
            <a:ext cx="16952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100" spc="-1" strike="noStrike">
                <a:solidFill>
                  <a:srgbClr val="ff9933"/>
                </a:solidFill>
                <a:latin typeface="Comic Sans MS"/>
              </a:rPr>
              <a:t>Sound Li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7"/>
          <p:cNvSpPr/>
          <p:nvPr/>
        </p:nvSpPr>
        <p:spPr>
          <a:xfrm>
            <a:off x="4495680" y="1139760"/>
            <a:ext cx="17240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9933"/>
                </a:solidFill>
                <a:latin typeface="Comic Sans MS"/>
              </a:rPr>
              <a:t>Feel Li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5800" y="1596960"/>
          <a:ext cx="5429160" cy="3124440"/>
        </p:xfrm>
        <a:graphic>
          <a:graphicData uri="http://schemas.openxmlformats.org/drawingml/2006/table">
            <a:tbl>
              <a:tblPr/>
              <a:tblGrid>
                <a:gridCol w="1809720"/>
                <a:gridCol w="1809720"/>
                <a:gridCol w="1809720"/>
              </a:tblGrid>
              <a:tr h="625680"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" name="Picture 2" descr="C:\Documents and Settings\mknuck\Local Settings\Temporary Internet Files\Content.IE5\VFWXN81O\MCj04136180000[1].wmf"/>
          <p:cNvPicPr/>
          <p:nvPr/>
        </p:nvPicPr>
        <p:blipFill>
          <a:blip r:embed="rId1"/>
          <a:stretch/>
        </p:blipFill>
        <p:spPr>
          <a:xfrm>
            <a:off x="152280" y="149400"/>
            <a:ext cx="1238400" cy="954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C:\Documents and Settings\mknuck\Local Settings\Temporary Internet Files\Content.IE5\VFWXN81O\MCj02381920000[1].wmf"/>
          <p:cNvPicPr/>
          <p:nvPr/>
        </p:nvPicPr>
        <p:blipFill>
          <a:blip r:embed="rId2"/>
          <a:stretch/>
        </p:blipFill>
        <p:spPr>
          <a:xfrm>
            <a:off x="5867280" y="149400"/>
            <a:ext cx="722520" cy="1106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228240" y="378000"/>
            <a:ext cx="6629400" cy="44193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 fontScale="94000"/>
          </a:bodyPr>
          <a:p>
            <a:pPr marL="2563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tudents learn science by 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>
              <a:lnSpc>
                <a:spcPct val="100000"/>
              </a:lnSpc>
              <a:spcBef>
                <a:spcPts val="850"/>
              </a:spcBef>
              <a:buClr>
                <a:srgbClr val="99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Tahoma"/>
              </a:rPr>
              <a:t>inquir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>
              <a:lnSpc>
                <a:spcPct val="100000"/>
              </a:lnSpc>
              <a:spcBef>
                <a:spcPts val="850"/>
              </a:spcBef>
              <a:buClr>
                <a:srgbClr val="99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Tahoma"/>
              </a:rPr>
              <a:t>asking quest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>
              <a:lnSpc>
                <a:spcPct val="100000"/>
              </a:lnSpc>
              <a:spcBef>
                <a:spcPts val="850"/>
              </a:spcBef>
              <a:buClr>
                <a:srgbClr val="99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Tahoma"/>
              </a:rPr>
              <a:t>developing model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>
              <a:lnSpc>
                <a:spcPct val="100000"/>
              </a:lnSpc>
              <a:spcBef>
                <a:spcPts val="850"/>
              </a:spcBef>
              <a:buClr>
                <a:srgbClr val="99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Tahoma"/>
              </a:rPr>
              <a:t>seeking and describing eviden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>
              <a:lnSpc>
                <a:spcPct val="100000"/>
              </a:lnSpc>
              <a:spcBef>
                <a:spcPts val="850"/>
              </a:spcBef>
              <a:buClr>
                <a:srgbClr val="99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Tahoma"/>
              </a:rPr>
              <a:t>developing scientific argumen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0" y="0"/>
            <a:ext cx="6858000" cy="225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5" descr="MPj03988190000[1]"/>
          <p:cNvPicPr/>
          <p:nvPr/>
        </p:nvPicPr>
        <p:blipFill>
          <a:blip r:embed="rId1"/>
          <a:stretch/>
        </p:blipFill>
        <p:spPr>
          <a:xfrm>
            <a:off x="4800600" y="1216080"/>
            <a:ext cx="129528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457200" y="4083120"/>
            <a:ext cx="611496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books.nap.edu/catalog/9853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nap.edu/books/0309089492/htm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3" descr="How Students Learn Mathematics"/>
          <p:cNvPicPr/>
          <p:nvPr/>
        </p:nvPicPr>
        <p:blipFill>
          <a:blip r:embed="rId1"/>
          <a:stretch/>
        </p:blipFill>
        <p:spPr>
          <a:xfrm>
            <a:off x="4229280" y="1552680"/>
            <a:ext cx="1517400" cy="2184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How People Learn"/>
          <p:cNvPicPr/>
          <p:nvPr/>
        </p:nvPicPr>
        <p:blipFill>
          <a:blip r:embed="rId2"/>
          <a:stretch/>
        </p:blipFill>
        <p:spPr>
          <a:xfrm>
            <a:off x="1200240" y="1552680"/>
            <a:ext cx="1560600" cy="21841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571680" y="230040"/>
            <a:ext cx="6286320" cy="10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3300" spc="-1" strike="noStrike">
                <a:solidFill>
                  <a:srgbClr val="990000"/>
                </a:solidFill>
                <a:latin typeface="Arial"/>
              </a:rPr>
              <a:t>We Know More About How        Students Lear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628560" y="574560"/>
            <a:ext cx="622944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en-US" sz="27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Three Principles of Learn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380880" y="1444680"/>
            <a:ext cx="6153120" cy="25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Principle #1:  Teachers must Engage Students Preconcep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Principle #2: Understanding Requires Factual  Knowledge and Conceptual Framework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Principle #3: Meta-cognitive Approach Enables Student Self-Monitorin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20:19:22Z</dcterms:created>
  <dc:creator>Mary Knuck</dc:creator>
  <dc:description/>
  <dc:language>en-US</dc:language>
  <cp:lastModifiedBy>Jennifer Robinson</cp:lastModifiedBy>
  <dcterms:modified xsi:type="dcterms:W3CDTF">2008-09-16T10:34:11Z</dcterms:modified>
  <cp:revision>90</cp:revision>
  <dc:subject/>
  <dc:title>PowerPoint Presentation</dc:title>
</cp:coreProperties>
</file>